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BB8-4250-4B4B-B79C-71B8956A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722-EA2F-4A70-9244-DDC912F8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A6C-A5B8-4E93-9DA9-56F81B1E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04A-FB00-4F20-9B6B-76FA0E4D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D73-C3A6-48F2-9D79-333CB295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0D51-1A3B-4E05-AB1B-C2FE0E9C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2FC4-C035-4944-BBA0-19B00BB4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8B6B-EA51-4AE5-A95A-4FDC7EDB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08AF-43B2-4FAA-8E6F-DC82564E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EFA-F843-47BC-93D7-2148DB42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4451-3E75-462B-A0A3-D4E843AD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8C09-F993-42BF-9012-2B651A36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BB2A-732D-44F1-B738-1F305982A4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http://www.yandex.ru/" TargetMode="External"/><Relationship Id="rId7" Type="http://schemas.openxmlformats.org/officeDocument/2006/relationships/hyperlink" Target="http://ekooko.1gb.ru/" TargetMode="External"/><Relationship Id="rId8" Type="http://schemas.openxmlformats.org/officeDocument/2006/relationships/hyperlink" Target="http://ekooko.1gb.ru/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alt"/>
          <p:cNvPicPr/>
          <p:nvPr/>
        </p:nvPicPr>
        <p:blipFill>
          <a:blip r:embed="rId1"/>
          <a:stretch/>
        </p:blipFill>
        <p:spPr>
          <a:xfrm>
            <a:off x="0" y="187200"/>
            <a:ext cx="1476360" cy="982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Стена ВКонтакте"/>
          <p:cNvPicPr/>
          <p:nvPr/>
        </p:nvPicPr>
        <p:blipFill>
          <a:blip r:embed="rId2"/>
          <a:stretch/>
        </p:blipFill>
        <p:spPr>
          <a:xfrm>
            <a:off x="2987640" y="2060640"/>
            <a:ext cx="2382840" cy="180000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43" name="Rectangle 5"/>
          <p:cNvSpPr/>
          <p:nvPr/>
        </p:nvSpPr>
        <p:spPr>
          <a:xfrm>
            <a:off x="4643280" y="51318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Они такие забавные... эти ежики."/>
          <p:cNvPicPr/>
          <p:nvPr/>
        </p:nvPicPr>
        <p:blipFill>
          <a:blip r:embed="rId3"/>
          <a:stretch/>
        </p:blipFill>
        <p:spPr>
          <a:xfrm>
            <a:off x="2987640" y="4149720"/>
            <a:ext cx="2390760" cy="1727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2771640" y="6021360"/>
            <a:ext cx="28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Ежик против батарейки! Она его убивает.</a:t>
            </a: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71640" y="551520"/>
            <a:ext cx="817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временном мире батарейки — неотъемлемая часть каждого дом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ульты, фонарики, игрушки, телефоны и т.д. — везде они, одновременно полезные в быту и жутко вредные в природе.  Чтобы не навредить окружающему миру,  надо знать о правилах утилизации батарей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1789920"/>
            <a:ext cx="284328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Что такого вредного или опасного в батарейка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108000" y="2334240"/>
            <a:ext cx="2700360" cy="106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менты  батарейки в основном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ксичны и опасн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840760" y="189000"/>
            <a:ext cx="38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 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561840" y="0"/>
            <a:ext cx="20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ая рекла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250920" y="1268280"/>
            <a:ext cx="8640720" cy="4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атарейки, сдавайтес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2" name="Picture 14" descr="Батарейка, сдавайся!"/>
          <p:cNvPicPr/>
          <p:nvPr/>
        </p:nvPicPr>
        <p:blipFill>
          <a:blip r:embed="rId4"/>
          <a:stretch/>
        </p:blipFill>
        <p:spPr>
          <a:xfrm>
            <a:off x="108000" y="5300640"/>
            <a:ext cx="2592360" cy="1201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Химические источники тока - Форум города Новокуйбышевск"/>
          <p:cNvPicPr/>
          <p:nvPr/>
        </p:nvPicPr>
        <p:blipFill>
          <a:blip r:embed="rId5"/>
          <a:stretch/>
        </p:blipFill>
        <p:spPr>
          <a:xfrm>
            <a:off x="5580000" y="22050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6"/>
          <p:cNvSpPr/>
          <p:nvPr/>
        </p:nvSpPr>
        <p:spPr>
          <a:xfrm>
            <a:off x="5587200" y="1773000"/>
            <a:ext cx="33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ак утилизировать батарейки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6659640" y="2347920"/>
            <a:ext cx="230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нак означает, что  нельзя выбрасывать батарейку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мусорное ведр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5580000" y="5227920"/>
            <a:ext cx="33847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ункты приема батареек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ипермаркет «Глобус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газин «Эльдорадо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ть магазинов «Media Markt 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газин 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kea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5508720" y="3427920"/>
            <a:ext cx="345744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нимание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 пальчиковая батарейка загрязняет тяжелыми металлами около 20 кв.м. почвы. В лесной зоне это территория обитания двух деревьев, двух кротов, одного ежика и нескольких тысяч дождевых черв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7242120" y="6524640"/>
            <a:ext cx="192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Составитель: Кулавина Ири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5219640" y="6524640"/>
            <a:ext cx="201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yandex.r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0"/>
            <a:ext cx="14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ekooko.1gb.ru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3"/>
          <p:cNvSpPr/>
          <p:nvPr/>
        </p:nvSpPr>
        <p:spPr>
          <a:xfrm>
            <a:off x="250920" y="2924280"/>
            <a:ext cx="23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инец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капливается в организме, поражая почки, нервную систему, костные тка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дм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вредит легким и почк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ту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поражает мозг и нервную систем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кель и цин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огут вызывать дермат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щело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прожигают слизистые оболочки и кож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15:57:19Z</dcterms:created>
  <dc:creator>User</dc:creator>
  <dc:description/>
  <dc:language>en-US</dc:language>
  <cp:lastModifiedBy>elena</cp:lastModifiedBy>
  <dcterms:modified xsi:type="dcterms:W3CDTF">2016-02-21T17:40:00Z</dcterms:modified>
  <cp:revision>6</cp:revision>
  <dc:subject/>
  <dc:title>Слайд 1</dc:title>
</cp:coreProperties>
</file>